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BBC2F-140F-4D8E-A2B8-37435AB18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5BF5A-A749-4AD1-91E5-1C00A1998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3527D-EBA0-4145-BC2D-851EEEFF73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D42D68-BFE6-49A1-8410-E2D5A6EA3A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3FD7-A144-49BA-8D6F-704C2007A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58030-0505-4E80-A3C8-DBCA2F451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1CFB0-D2BB-499B-BA9D-1F6B527EB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E8E4B-377F-47C3-A694-7F370F2AE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784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B966E0A-719C-4E4D-BED8-23D250B8E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15379-0823-413A-AAB8-86D44453C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8A7EB-7BC7-4E3E-9346-37861295D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50FA0-81B4-4A8A-A93D-34FA0F930B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5394-242D-44B6-AB7A-45BEF512C3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án González Muñoz</a:t>
            </a:r>
            <a:endParaRPr b="0" lang="en-US" sz="3200" spc="-1" strike="noStrike">
              <a:solidFill>
                <a:srgbClr val="000000"/>
              </a:solidFill>
              <a:latin typeface="Arial"/>
            </a:endParaRPr>
          </a:p>
        </p:txBody>
      </p:sp>
      <p:sp>
        <p:nvSpPr>
          <p:cNvPr id="40" name=""/>
          <p:cNvSpPr/>
          <p:nvPr/>
        </p:nvSpPr>
        <p:spPr>
          <a:xfrm>
            <a:off x="11160" y="112680"/>
            <a:ext cx="9105840" cy="3657600"/>
          </a:xfrm>
          <a:prstGeom prst="rect">
            <a:avLst/>
          </a:prstGeom>
          <a:noFill/>
          <a:ln w="0">
            <a:noFill/>
          </a:ln>
          <a:effectLst>
            <a:outerShdw dist="38183" dir="2700000" blurRad="0" rotWithShape="0">
              <a:srgbClr val="808080">
                <a:alpha val="80000"/>
              </a:srgbClr>
            </a:outerShdw>
          </a:effectLst>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ff0000"/>
                </a:solidFill>
                <a:latin typeface="Comic Sans MS"/>
                <a:ea typeface="Comic Sans MS"/>
              </a:rPr>
              <a:t>LOS REGALOS EN EL MUNDO ANTIGUO</a:t>
            </a:r>
            <a:endParaRPr b="0" lang="en-US" sz="6900" spc="-1" strike="noStrike">
              <a:solidFill>
                <a:srgbClr val="000000"/>
              </a:solidFill>
              <a:latin typeface="Arial"/>
            </a:endParaRPr>
          </a:p>
        </p:txBody>
      </p:sp>
      <p:pic>
        <p:nvPicPr>
          <p:cNvPr id="41" name="" descr=""/>
          <p:cNvPicPr/>
          <p:nvPr/>
        </p:nvPicPr>
        <p:blipFill>
          <a:blip r:embed="rId2"/>
          <a:stretch/>
        </p:blipFill>
        <p:spPr>
          <a:xfrm>
            <a:off x="3203640" y="4581360"/>
            <a:ext cx="285732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1"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steriormente, el nacimiento del Sol y su nuevo período de luz fueron sustituidos por el nacimiento del verdadero señor para la Iglesia: Jesús de Nazaret. Y gradualmente las costumbres paganas pasaron al, Dίa de Año Nuevo, siendo asimiladas finalmente por la fiesta cristiana que hoy en día se conoce universalmente como el Día de Navidad. </a:t>
            </a:r>
            <a:endParaRPr b="0" lang="en-US" sz="2000" spc="-1" strike="noStrike">
              <a:solidFill>
                <a:srgbClr val="000000"/>
              </a:solidFill>
              <a:latin typeface="Arial"/>
            </a:endParaRPr>
          </a:p>
        </p:txBody>
      </p:sp>
      <p:pic>
        <p:nvPicPr>
          <p:cNvPr id="62" name="" descr=""/>
          <p:cNvPicPr/>
          <p:nvPr/>
        </p:nvPicPr>
        <p:blipFill>
          <a:blip r:embed="rId2"/>
          <a:stretch/>
        </p:blipFill>
        <p:spPr>
          <a:xfrm>
            <a:off x="611280" y="1700280"/>
            <a:ext cx="4032000" cy="386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4" name="PlaceHolder 2"/>
          <p:cNvSpPr>
            <a:spLocks noGrp="1"/>
          </p:cNvSpPr>
          <p:nvPr>
            <p:ph/>
          </p:nvPr>
        </p:nvSpPr>
        <p:spPr>
          <a:xfrm>
            <a:off x="4642920" y="1268280"/>
            <a:ext cx="4038840" cy="4525920"/>
          </a:xfrm>
          <a:prstGeom prst="rect">
            <a:avLst/>
          </a:prstGeom>
          <a:noFill/>
          <a:ln w="0">
            <a:noFill/>
          </a:ln>
        </p:spPr>
        <p:txBody>
          <a:bodyPr lIns="50760" rIns="132120" tIns="50760" bIns="50760" anchor="t">
            <a:normAutofit fontScale="91000"/>
          </a:bodyPr>
          <a:p>
            <a:pPr marL="348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esos días en la ciudad había una gran alegría ya que no había clase, ni sesiones del Senado, ni juicios, ni se ejecutaban las sentencias de muerte, en cambio se concedía la libertad a los prisioneros, quienes dejaban sus cadenas en el templo de Saturno como agradecimiento, se invertían las clases sociales y los esclavos que llevaban el pileus (gorro cçonico) como símbolo de libertad iban vestidos con las ropas de sus amos y eran servidos por ellos, a los que podían criticar sin miedo. Estaba permitido hacer sorteos de loterίa y se levantaba la prohibición de los juegos de azar, se celebraban banquetes públicos, se hacían regalos, velas y </a:t>
            </a:r>
            <a:r>
              <a:rPr b="1" i="1" lang="en-US" sz="1600" spc="-1" strike="noStrike">
                <a:solidFill>
                  <a:srgbClr val="000000"/>
                </a:solidFill>
                <a:latin typeface="Arial"/>
              </a:rPr>
              <a:t>sigillaria</a:t>
            </a:r>
            <a:r>
              <a:rPr b="1" lang="en-US" sz="1600" spc="-1" strike="noStrike">
                <a:solidFill>
                  <a:srgbClr val="000000"/>
                </a:solidFill>
                <a:latin typeface="Arial"/>
              </a:rPr>
              <a:t> (muñecos de terracota) y había espectáculos de gladiadores.</a:t>
            </a:r>
            <a:endParaRPr b="0" lang="en-US" sz="1600" spc="-1" strike="noStrike">
              <a:solidFill>
                <a:srgbClr val="000000"/>
              </a:solidFill>
              <a:latin typeface="Arial"/>
            </a:endParaRPr>
          </a:p>
        </p:txBody>
      </p:sp>
      <p:pic>
        <p:nvPicPr>
          <p:cNvPr id="65" name="" descr=""/>
          <p:cNvPicPr/>
          <p:nvPr/>
        </p:nvPicPr>
        <p:blipFill>
          <a:blip r:embed="rId2"/>
          <a:stretch/>
        </p:blipFill>
        <p:spPr>
          <a:xfrm>
            <a:off x="468360" y="1989000"/>
            <a:ext cx="4037040" cy="1960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7" name="PlaceHolder 2"/>
          <p:cNvSpPr>
            <a:spLocks noGrp="1"/>
          </p:cNvSpPr>
          <p:nvPr>
            <p:ph/>
          </p:nvPr>
        </p:nvSpPr>
        <p:spPr>
          <a:xfrm>
            <a:off x="4642920" y="1268280"/>
            <a:ext cx="4038840" cy="4525920"/>
          </a:xfrm>
          <a:prstGeom prst="rect">
            <a:avLst/>
          </a:prstGeom>
          <a:noFill/>
          <a:ln w="0">
            <a:noFill/>
          </a:ln>
        </p:spPr>
        <p:txBody>
          <a:bodyPr lIns="50760" rIns="132120" tIns="50760" bIns="50760" anchor="t">
            <a:normAutofit fontScale="90000"/>
          </a:bodyPr>
          <a:p>
            <a:pPr marL="34416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 noche del 24 de diciembre se había extendido por todo el Imperio una antigua tradición egipcia: Cuando Ra, el dios Sol, se enteró de la infidelidad de su esposa embarazada, Nut, la maldijo, y ésta no pudo parir en ningún mes del año. Pero Nut tenía otro amante poderoso, el dios Thot, que jugando una partida de damas con la Luna consiguió de ésta una 72ª parte de cada día del año, con las que compuso cinco días completos que agregó al año egipcio de 360 días. En estas últimas jornadas la maldición de Ra quedaría sin efecto. Así pues, Osiris nació el primero de estos días y en los días siguientes nacieron sus otros cuatro hermanos: Horus, Set, Isis y Nefty. A festejar, por tanto, la noche del 24, el nacimiento de un dios.</a:t>
            </a:r>
            <a:endParaRPr b="0" lang="en-US" sz="1600" spc="-1" strike="noStrike">
              <a:solidFill>
                <a:srgbClr val="000000"/>
              </a:solidFill>
              <a:latin typeface="Arial"/>
            </a:endParaRPr>
          </a:p>
        </p:txBody>
      </p:sp>
      <p:pic>
        <p:nvPicPr>
          <p:cNvPr id="68" name="" descr=""/>
          <p:cNvPicPr/>
          <p:nvPr/>
        </p:nvPicPr>
        <p:blipFill>
          <a:blip r:embed="rId2"/>
          <a:stretch/>
        </p:blipFill>
        <p:spPr>
          <a:xfrm>
            <a:off x="1373040" y="1600200"/>
            <a:ext cx="22068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70" name="PlaceHolder 2"/>
          <p:cNvSpPr>
            <a:spLocks noGrp="1"/>
          </p:cNvSpPr>
          <p:nvPr>
            <p:ph/>
          </p:nvPr>
        </p:nvSpPr>
        <p:spPr>
          <a:xfrm>
            <a:off x="4642920" y="1197000"/>
            <a:ext cx="4038840" cy="4525920"/>
          </a:xfrm>
          <a:prstGeom prst="rect">
            <a:avLst/>
          </a:prstGeom>
          <a:noFill/>
          <a:ln w="0">
            <a:noFill/>
          </a:ln>
        </p:spPr>
        <p:txBody>
          <a:bodyPr lIns="50760" rIns="132120" tIns="50760" bIns="50760" anchor="t">
            <a:normAutofit fontScale="89000"/>
          </a:bodyPr>
          <a:p>
            <a:pPr marL="34056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 nacimiento, a 25 de diciembre, del Sol Invicto. También en conmemoración del nacimiento de Mitra, dios oriental del cielo y de la luz y, más tarde, tutelar de las legiones romanas. Nació milagrosamente del seno de una roca y los pastores fueron los primeros en dirigir sus plegarias al niño desnudo. El culto al Sol, de escasa importancia entre los antiguos romanos, cobró auge a partir del emperador Aureliano, quien, en el 274, lo asimiló al "Sol Invictus" de la religión siria e instauró un nuevo culto.</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1" name="" descr=""/>
          <p:cNvPicPr/>
          <p:nvPr/>
        </p:nvPicPr>
        <p:blipFill>
          <a:blip r:embed="rId2"/>
          <a:stretch/>
        </p:blipFill>
        <p:spPr>
          <a:xfrm>
            <a:off x="571680" y="2224080"/>
            <a:ext cx="3809880" cy="3276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s eran las fechas en las que los romanos solían hacerse regalos.</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onalia (1 de marzo)</a:t>
            </a: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urnalia (del 17 al 23 de diciembr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ATRONALIA</a:t>
            </a:r>
            <a:endParaRPr b="0" lang="en-US" sz="40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gún la leyenda, en los primeros tiempos la población de Roma era masculina. Para solucionarlo, Rómulo invitó a los pueblos vecinos a unos juegos celebrados en honor a Neptuno, un 21 de agosto. La mayoría de ellos eran sabinos que acudieron con sus mujeres e hijos. A una señal de Rómulo, cada Romano raptó a una mujer. Los sabinos enfadados atacaron a los Romanos acorralándolos en el Capitolio. En la batalla final, las sabinas se interpusieron entre ambos combatientes, haciéndoles entrar en razón ya que por una parte perdían a sus padres y hermanos y por la otra a sus maridos e hijos. Finalmente el 1 de marzo se reconciliaro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890640" y="733320"/>
            <a:ext cx="7362720" cy="539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RONALIA</a:t>
            </a:r>
            <a:endParaRPr b="0" lang="en-US" sz="4400" spc="-1" strike="noStrike">
              <a:solidFill>
                <a:srgbClr val="000000"/>
              </a:solidFill>
              <a:latin typeface="Arial"/>
            </a:endParaRPr>
          </a:p>
        </p:txBody>
      </p:sp>
      <p:sp>
        <p:nvSpPr>
          <p:cNvPr id="48" name="PlaceHolder 2"/>
          <p:cNvSpPr>
            <a:spLocks noGrp="1"/>
          </p:cNvSpPr>
          <p:nvPr>
            <p:ph/>
          </p:nvPr>
        </p:nvSpPr>
        <p:spPr>
          <a:xfrm>
            <a:off x="4642920" y="1341360"/>
            <a:ext cx="4038840" cy="4525920"/>
          </a:xfrm>
          <a:prstGeom prst="rect">
            <a:avLst/>
          </a:prstGeom>
          <a:noFill/>
          <a:ln w="0">
            <a:noFill/>
          </a:ln>
        </p:spPr>
        <p:txBody>
          <a:bodyPr lIns="50760" rIns="132120" tIns="50760" bIns="50760" anchor="t">
            <a:normAutofit fontScale="92000"/>
          </a:bodyPr>
          <a:p>
            <a:pPr marL="35172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elebraban en las calendas de marzo. Los esposos hacen regalos a sus mujeres y se celebran banquetes. </a:t>
            </a:r>
            <a:endParaRPr b="0" lang="en-US" sz="2000" spc="-1" strike="noStrike">
              <a:solidFill>
                <a:srgbClr val="000000"/>
              </a:solidFill>
              <a:latin typeface="Arial"/>
            </a:endParaRPr>
          </a:p>
          <a:p>
            <a:pPr marL="35172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iesta está dedicada a Juno Lucina, "la que va hacia la luz", protectora de los partos y de las mujeres que van a dar a luz. Las mujeres casadas acudían al templo de la diosa para suplicarle por la prosperidad de sus matrimonios o, las que estaban embarazadas, por un feliz parto. A sus vez, las matronas recibían muestras de respeto y cariño por parte de los miembros de su familia.</a:t>
            </a:r>
            <a:br>
              <a:rPr sz="2000"/>
            </a:br>
            <a:r>
              <a:rPr b="0" lang="en-US" sz="2000" spc="-1" strike="noStrike">
                <a:solidFill>
                  <a:srgbClr val="000000"/>
                </a:solidFill>
                <a:latin typeface="Arial"/>
              </a:rPr>
              <a:t>En este día , las matronas tienen todo el poder. </a:t>
            </a:r>
            <a:endParaRPr b="0" lang="en-US" sz="2000" spc="-1" strike="noStrike">
              <a:solidFill>
                <a:srgbClr val="000000"/>
              </a:solidFill>
              <a:latin typeface="Arial"/>
            </a:endParaRPr>
          </a:p>
        </p:txBody>
      </p:sp>
      <p:pic>
        <p:nvPicPr>
          <p:cNvPr id="49" name="" descr=""/>
          <p:cNvPicPr/>
          <p:nvPr/>
        </p:nvPicPr>
        <p:blipFill>
          <a:blip r:embed="rId2"/>
          <a:stretch/>
        </p:blipFill>
        <p:spPr>
          <a:xfrm>
            <a:off x="684360" y="1628640"/>
            <a:ext cx="3754440" cy="4321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RONALIA</a:t>
            </a:r>
            <a:endParaRPr b="0" lang="en-US" sz="4400" spc="-1" strike="noStrike">
              <a:solidFill>
                <a:srgbClr val="000000"/>
              </a:solidFill>
              <a:latin typeface="Arial"/>
            </a:endParaRPr>
          </a:p>
        </p:txBody>
      </p:sp>
      <p:sp>
        <p:nvSpPr>
          <p:cNvPr id="51"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elebra la procesión de los Salios. Durante el reinado de Numa cayó un escudo del cielo y para evitar que fuera robado, el rey ordenó al herrero Mamurio Veturio la fabricación de once escudos idénticos al primero, que fueron colgados en la Curia Saliorum en la colina del Palatino. En estas fechas los Salios sacaban los escudos y los exhibían en procesión, despertando la conciencia bélica, ya que con este mes se inicaba la actividad de guerra.</a:t>
            </a:r>
            <a:endParaRPr b="0" lang="en-US" sz="2000" spc="-1" strike="noStrike">
              <a:solidFill>
                <a:srgbClr val="000000"/>
              </a:solidFill>
              <a:latin typeface="Arial"/>
            </a:endParaRPr>
          </a:p>
        </p:txBody>
      </p:sp>
      <p:pic>
        <p:nvPicPr>
          <p:cNvPr id="52" name="" descr=""/>
          <p:cNvPicPr/>
          <p:nvPr/>
        </p:nvPicPr>
        <p:blipFill>
          <a:blip r:embed="rId2"/>
          <a:stretch/>
        </p:blipFill>
        <p:spPr>
          <a:xfrm>
            <a:off x="468360" y="1700280"/>
            <a:ext cx="3959280" cy="3500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530360" y="336600"/>
            <a:ext cx="6083280" cy="61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55"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a una importante festividad pagana y se llegó a denominarlas "fiesta de los esclavos" ya que en las mismas, los esclavos recibían raciones extras, tiempo libre y otras prebendas.</a:t>
            </a:r>
            <a:endParaRPr b="0" lang="en-US" sz="20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an a un mismo tiempo Navidad y Carnaval y el cristianismo de la antigüedad tardía tuvo fuertes problemas para acabar con esta fiesta pagana, intentando sustituirla.</a:t>
            </a:r>
            <a:endParaRPr b="0" lang="en-US" sz="2000" spc="-1" strike="noStrike">
              <a:solidFill>
                <a:srgbClr val="000000"/>
              </a:solidFill>
              <a:latin typeface="Arial"/>
            </a:endParaRPr>
          </a:p>
        </p:txBody>
      </p:sp>
      <p:pic>
        <p:nvPicPr>
          <p:cNvPr id="56" name="" descr=""/>
          <p:cNvPicPr/>
          <p:nvPr/>
        </p:nvPicPr>
        <p:blipFill>
          <a:blip r:embed="rId2"/>
          <a:stretch/>
        </p:blipFill>
        <p:spPr>
          <a:xfrm>
            <a:off x="457200" y="2687760"/>
            <a:ext cx="4038480" cy="2349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58"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 celebraban del 17 al 23 de diciembre y eran consagradas al dios Saturno. Eran siete días de bulliciosas diversiones, banquetes e intercambio de regalos. Las fiestas comenzaban con un sacrificio en el templo de Saturno. Durante las Saturnales, los esclavos eran frecuentemente liberados de sus obligaciones y sus papeles cambiados con los de sus dueños.</a:t>
            </a:r>
            <a:endParaRPr b="0" lang="en-US" sz="2000" spc="-1" strike="noStrike">
              <a:solidFill>
                <a:srgbClr val="000000"/>
              </a:solidFill>
              <a:latin typeface="Arial"/>
            </a:endParaRPr>
          </a:p>
        </p:txBody>
      </p:sp>
      <p:pic>
        <p:nvPicPr>
          <p:cNvPr id="59" name="" descr=""/>
          <p:cNvPicPr/>
          <p:nvPr/>
        </p:nvPicPr>
        <p:blipFill>
          <a:blip r:embed="rId2"/>
          <a:stretch/>
        </p:blipFill>
        <p:spPr>
          <a:xfrm>
            <a:off x="457200" y="2144880"/>
            <a:ext cx="4038480" cy="3436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uE</dc:creator>
  <dc:description/>
  <dc:language>en-US</dc:language>
  <cp:lastModifiedBy/>
  <cp:revision>0</cp:revision>
  <dc:subject/>
  <dc:title>Diapositiva 1</dc:title>
</cp:coreProperties>
</file>